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4804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91584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04680" y="4712760"/>
            <a:ext cx="4981320" cy="446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9425160"/>
            <a:ext cx="2943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48040" y="942516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6A81-F59A-470F-B8B2-E7024363AED0}"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ADE7-A291-49DC-8672-52B4BEC151BB}"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33" name="PlaceHolder 1"/>
          <p:cNvSpPr>
            <a:spLocks noGrp="1"/>
          </p:cNvSpPr>
          <p:nvPr>
            <p:ph type="sldImg"/>
          </p:nvPr>
        </p:nvSpPr>
        <p:spPr>
          <a:xfrm>
            <a:off x="915840" y="744480"/>
            <a:ext cx="4959360" cy="3719520"/>
          </a:xfrm>
          <a:prstGeom prst="rect">
            <a:avLst/>
          </a:prstGeom>
          <a:ln w="0">
            <a:noFill/>
          </a:ln>
        </p:spPr>
      </p:sp>
      <p:sp>
        <p:nvSpPr>
          <p:cNvPr id="134"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97F2-4C2C-44DA-9B87-069F669B37EB}"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36" name="PlaceHolder 1"/>
          <p:cNvSpPr>
            <a:spLocks noGrp="1"/>
          </p:cNvSpPr>
          <p:nvPr>
            <p:ph type="sldImg"/>
          </p:nvPr>
        </p:nvSpPr>
        <p:spPr>
          <a:xfrm>
            <a:off x="915840" y="744480"/>
            <a:ext cx="4959360" cy="3719520"/>
          </a:xfrm>
          <a:prstGeom prst="rect">
            <a:avLst/>
          </a:prstGeom>
          <a:ln w="0">
            <a:noFill/>
          </a:ln>
        </p:spPr>
      </p:sp>
      <p:sp>
        <p:nvSpPr>
          <p:cNvPr id="137"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0E506-28B7-4CDE-BE35-2BA70EE41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CE8FB-CA56-4BF8-8C14-40497A044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6FDF7-0677-4220-957D-CFB79241A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6D03F-55F1-4971-9F1A-ABC7A68DF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552A58-9E34-4DE5-9D0B-A5576F2FD9E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C9A8F8-92E8-419D-9A9C-D66762BC472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4D3FED-BCCC-43F3-A8DA-AFEC0CBA74A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AC6390-73BA-481A-9CAE-6FDBBE35ED3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6675F2-14C1-40C3-9789-28C81398FAE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F307C2-F1FC-411E-B03E-0C39C8763D2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751195-D74E-4A6F-B933-22305AF7DF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FF912-A632-46C4-B911-630333FF1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483391-3F9E-4421-862F-E401CB6033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095981-F876-48E6-85A7-6AA1FC74442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D60B66-E247-4D33-81D3-96430089108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644EC9-1DEA-4388-B3A4-78A445D4002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7BD193-9E0F-4F83-9940-CCBE8F6E189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D555F-3987-4884-9501-08C49DDF4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39657-259C-41DB-B84E-B36CD92E5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F52A4-91DC-4C25-BB35-5338CC318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4B7C5-B430-4414-AD98-495348E16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6D6F8-6A46-491F-B069-EEF070085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E3D17-C202-43B7-99B2-10B92D87D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C7A0A-3854-4670-BAE6-5237E57EE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008EB-3102-4E01-A7B6-BAD6CF79B433}"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CB73-400B-4CA2-B8D5-A6C4E37F534E}"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280" y="1844280"/>
            <a:ext cx="8064360" cy="230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Қазақстан </a:t>
            </a:r>
            <a:br>
              <a:rPr sz="4000"/>
            </a:br>
            <a:r>
              <a:rPr b="1" lang="ru-RU" sz="4000" spc="-1" strike="noStrike">
                <a:solidFill>
                  <a:srgbClr val="ffffff"/>
                </a:solidFill>
                <a:latin typeface="Tahoma"/>
              </a:rPr>
              <a:t>Республикасының экологиялық </a:t>
            </a:r>
            <a:br>
              <a:rPr sz="4000"/>
            </a:br>
            <a:r>
              <a:rPr b="1" lang="ru-RU" sz="4000" spc="-1" strike="noStrike">
                <a:solidFill>
                  <a:srgbClr val="ffffff"/>
                </a:solidFill>
                <a:latin typeface="Tahoma"/>
              </a:rPr>
              <a:t>заңнамасы</a:t>
            </a:r>
            <a:endParaRPr b="0" lang="en-US" sz="4000" spc="-1" strike="noStrike">
              <a:solidFill>
                <a:srgbClr val="ffffff"/>
              </a:solidFill>
              <a:latin typeface="Tahoma"/>
            </a:endParaRPr>
          </a:p>
        </p:txBody>
      </p:sp>
      <p:pic>
        <p:nvPicPr>
          <p:cNvPr id="91" name="Picture 3" descr=""/>
          <p:cNvPicPr/>
          <p:nvPr/>
        </p:nvPicPr>
        <p:blipFill>
          <a:blip r:embed="rId2"/>
          <a:stretch/>
        </p:blipFill>
        <p:spPr>
          <a:xfrm>
            <a:off x="0" y="61920"/>
            <a:ext cx="3659040" cy="679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600"/>
            <a:ext cx="8229600" cy="13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Қоршаған ортаны қорғау саласындағы сәйкестіктi растау объектілері мен рәсімi</a:t>
            </a:r>
            <a:endParaRPr b="0" lang="en-US" sz="3200" spc="-1" strike="noStrike">
              <a:solidFill>
                <a:srgbClr val="ffffff"/>
              </a:solidFill>
              <a:latin typeface="Tahoma"/>
            </a:endParaRPr>
          </a:p>
        </p:txBody>
      </p:sp>
      <p:sp>
        <p:nvSpPr>
          <p:cNvPr id="109" name="PlaceHolder 2"/>
          <p:cNvSpPr>
            <a:spLocks noGrp="1"/>
          </p:cNvSpPr>
          <p:nvPr>
            <p:ph/>
          </p:nvPr>
        </p:nvSpPr>
        <p:spPr>
          <a:xfrm>
            <a:off x="457200" y="1905120"/>
            <a:ext cx="8229600" cy="433224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Қоршаған ортаны қорғау саласындағы сәйкестікті растау объектілері мен рәсімі Қазақстан Республикасының техникалық реттеу туралы заңнамасында айқындалады. Техникалық реттеу саласындағы нормативтік құқықтық актілерде белгіленген талаптарды орындау үйлестірілген стандарттармен қамтамасыз етіледі.</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600"/>
            <a:ext cx="8229600" cy="13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Қоршаған ортаны қорғау саласындағы сәйкестіктi растау объектілері мен рәсімi</a:t>
            </a:r>
            <a:endParaRPr b="0" lang="en-US" sz="3200" spc="-1" strike="noStrike">
              <a:solidFill>
                <a:srgbClr val="ffffff"/>
              </a:solidFill>
              <a:latin typeface="Tahoma"/>
            </a:endParaRPr>
          </a:p>
        </p:txBody>
      </p:sp>
      <p:sp>
        <p:nvSpPr>
          <p:cNvPr id="111" name="PlaceHolder 2"/>
          <p:cNvSpPr>
            <a:spLocks noGrp="1"/>
          </p:cNvSpPr>
          <p:nvPr>
            <p:ph/>
          </p:nvPr>
        </p:nvSpPr>
        <p:spPr>
          <a:xfrm>
            <a:off x="457200" y="1905120"/>
            <a:ext cx="8229600" cy="433224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Ұйымдардың стандарттары қолдану үшін ерікті сипатта болады және техникалық реттеу саласындағы нормативтік құқықтық актілерде белгіленген талаптарға қайшы келмеуге тиіс. Сәйкестігін растаудан өтпеген, сәйкестігін растаудан міндетті түрде өтуге тиіс өнімдерді, қызметтер көрсетуді, процестерді өткізуге тыйым салынады.</a:t>
            </a:r>
            <a:r>
              <a:rPr b="1"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600"/>
            <a:ext cx="8229600" cy="13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Қоршаған ортаны қорғау саласындағы сәйкестіктi растау объектілері мен рәсімi</a:t>
            </a:r>
            <a:endParaRPr b="0" lang="en-US" sz="3200" spc="-1" strike="noStrike">
              <a:solidFill>
                <a:srgbClr val="ffffff"/>
              </a:solidFill>
              <a:latin typeface="Tahoma"/>
            </a:endParaRPr>
          </a:p>
        </p:txBody>
      </p:sp>
      <p:sp>
        <p:nvSpPr>
          <p:cNvPr id="113" name="PlaceHolder 2"/>
          <p:cNvSpPr>
            <a:spLocks noGrp="1"/>
          </p:cNvSpPr>
          <p:nvPr>
            <p:ph/>
          </p:nvPr>
        </p:nvSpPr>
        <p:spPr>
          <a:xfrm>
            <a:off x="457200" y="1905120"/>
            <a:ext cx="8229600" cy="433224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ahoma"/>
              </a:rPr>
              <a:t>Техникалық реттеу саласындағы нормативтік құқықтық актілерде белгіленген талаптарды орындау үйлестірілген стандарттармен қамтамасыз етіледі.</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ahoma"/>
              </a:rPr>
              <a:t>Ұйымдардың стандарттары қолдану үшін ерікті сипатта болады және техникалық реттеу саласындағы нормативтік құқықтық актілерде белгіленген талаптарға қайшы келмеуге тиіс.</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ahoma"/>
              </a:rPr>
              <a:t>Сәйкестігін растаудан өтпеген, сәйкестігін растаудан міндетті түрде өтуге тиіс өнімдерді, қызметтер көрсетуді, процестерді өткізуге тыйым салынады.</a:t>
            </a:r>
            <a:r>
              <a:rPr b="1" lang="ru-RU"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Экологиялық таңбалаудың міндеттері</a:t>
            </a:r>
            <a:r>
              <a:rPr b="1" lang="ru-RU" sz="3200" spc="-1" strike="noStrike">
                <a:solidFill>
                  <a:srgbClr val="ff0000"/>
                </a:solidFill>
                <a:latin typeface="Tahoma"/>
              </a:rPr>
              <a:t>:</a:t>
            </a:r>
            <a:endParaRPr b="0" lang="en-US" sz="3200" spc="-1" strike="noStrike">
              <a:solidFill>
                <a:srgbClr val="ffffff"/>
              </a:solidFill>
              <a:latin typeface="Tahoma"/>
            </a:endParaRPr>
          </a:p>
        </p:txBody>
      </p:sp>
      <p:sp>
        <p:nvSpPr>
          <p:cNvPr id="115" name="PlaceHolder 2"/>
          <p:cNvSpPr>
            <a:spLocks noGrp="1"/>
          </p:cNvSpPr>
          <p:nvPr>
            <p:ph/>
          </p:nvPr>
        </p:nvSpPr>
        <p:spPr>
          <a:xfrm>
            <a:off x="457200" y="1557000"/>
            <a:ext cx="8229600" cy="460836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тұтынушыларды қоршаған ортаға қауіпті өнімдерді сатып алудан (пайдаланудан) қорғау;</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өнімдердің барлық түрлерін өндіру, пайдалану және жою, (кәдеге жарату, өңдеу) кезінде қоршаған ортаның ластануын болдырмау;</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жабдықтардың, технологиялық процестердің, өндірістердің және өнімдердің экологиялық қауіпсіздігін қамтамасыз ету;</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Экологиялық таңбалаудың міндеттері</a:t>
            </a:r>
            <a:r>
              <a:rPr b="1" lang="ru-RU" sz="3200" spc="-1" strike="noStrike">
                <a:solidFill>
                  <a:srgbClr val="ff0000"/>
                </a:solidFill>
                <a:latin typeface="Tahoma"/>
              </a:rPr>
              <a:t>:</a:t>
            </a:r>
            <a:endParaRPr b="0" lang="en-US" sz="3200" spc="-1" strike="noStrike">
              <a:solidFill>
                <a:srgbClr val="ffffff"/>
              </a:solidFill>
              <a:latin typeface="Tahoma"/>
            </a:endParaRPr>
          </a:p>
        </p:txBody>
      </p:sp>
      <p:sp>
        <p:nvSpPr>
          <p:cNvPr id="117" name="PlaceHolder 2"/>
          <p:cNvSpPr>
            <a:spLocks noGrp="1"/>
          </p:cNvSpPr>
          <p:nvPr>
            <p:ph/>
          </p:nvPr>
        </p:nvSpPr>
        <p:spPr>
          <a:xfrm>
            <a:off x="457200" y="1557000"/>
            <a:ext cx="8229600" cy="460836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экологиялық қауіпсіз технологиялық процестерді, жабдықтарды және өндірістерді енгізу</a:t>
            </a:r>
            <a:r>
              <a:rPr b="1" lang="kk-KZ" sz="2800" spc="-1" strike="noStrike">
                <a:solidFill>
                  <a:srgbClr val="ffffff"/>
                </a:solidFill>
                <a:latin typeface="Tahoma"/>
              </a:rPr>
              <a:t>;</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елге экологиялық қауіпті өнімдер мен технологиялардың әкелінуін болдырмау</a:t>
            </a:r>
            <a:r>
              <a:rPr b="1" lang="kk-KZ" sz="2800" spc="-1" strike="noStrike">
                <a:solidFill>
                  <a:srgbClr val="ffffff"/>
                </a:solidFill>
                <a:latin typeface="Tahoma"/>
              </a:rPr>
              <a:t>;</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отандық өнімнің экспортталуына жәрдемдесу және бәсекеге қабілеттігін арттыру</a:t>
            </a:r>
            <a:r>
              <a:rPr b="1" lang="kk-KZ" sz="2800" spc="-1" strike="noStrike">
                <a:solidFill>
                  <a:srgbClr val="ffffff"/>
                </a:solidFill>
                <a:latin typeface="Tahoma"/>
              </a:rPr>
              <a:t>;</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Экологиялық таңбалау</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119" name="PlaceHolder 2"/>
          <p:cNvSpPr>
            <a:spLocks noGrp="1"/>
          </p:cNvSpPr>
          <p:nvPr>
            <p:ph/>
          </p:nvPr>
        </p:nvSpPr>
        <p:spPr>
          <a:xfrm>
            <a:off x="468360" y="1557000"/>
            <a:ext cx="8229600" cy="460836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Өндірілу кезінде қоршаған ортаға, халықтың денсаулығына және биологиялық ресурстарға зиянды әсері неғұрлым аз немесе қолайлы әсер ететін өнім экологиялық таңбалау объектісі болып табылады. Экологиялық таңбалау объектісі өнім өндіру процесі мен қолданылатын технологияларды </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қамтиды</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Экологиялық таңбалау</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121" name="PlaceHolder 2"/>
          <p:cNvSpPr>
            <a:spLocks noGrp="1"/>
          </p:cNvSpPr>
          <p:nvPr>
            <p:ph/>
          </p:nvPr>
        </p:nvSpPr>
        <p:spPr>
          <a:xfrm>
            <a:off x="468360" y="1557000"/>
            <a:ext cx="8229600" cy="460836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Өндірушілер өз өнімін сәйкестігі расталғаннан кейін экологиялық таза  өнім белгісімен ерікті негізде таңбалайды. Өнімді экологиялық таңбалауды тиісті саладағы коммерциялық емес ұйым Қазақстан Республикасының техникалық реттеу туралы заңнамасында көзделген тәртіппен жүзеге асырады</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Экологиялық таңбалау</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123" name="PlaceHolder 2"/>
          <p:cNvSpPr>
            <a:spLocks noGrp="1"/>
          </p:cNvSpPr>
          <p:nvPr>
            <p:ph/>
          </p:nvPr>
        </p:nvSpPr>
        <p:spPr>
          <a:xfrm>
            <a:off x="468360" y="1557000"/>
            <a:ext cx="8229600" cy="460836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Экологиялық таза өнім стандарттарын, экологиялық таза өнім белгісінің нысанын және оған қойылатын техникалық талаптарды «Техникалық реттеу туралы» Қазақстан Республикасының </a:t>
            </a:r>
            <a:r>
              <a:rPr b="1" lang="kk-KZ" sz="2800" spc="-1" strike="noStrike">
                <a:solidFill>
                  <a:srgbClr val="ffffff"/>
                </a:solidFill>
                <a:latin typeface="Tahoma"/>
              </a:rPr>
              <a:t>з</a:t>
            </a:r>
            <a:r>
              <a:rPr b="1" lang="ru-RU" sz="2800" spc="-1" strike="noStrike">
                <a:solidFill>
                  <a:srgbClr val="ffffff"/>
                </a:solidFill>
                <a:latin typeface="Tahoma"/>
              </a:rPr>
              <a:t>аңына сәйкес аккредиттелген коммерциялық емес ұйым белгілейд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Экологиялық таңбалау</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125" name="PlaceHolder 2"/>
          <p:cNvSpPr>
            <a:spLocks noGrp="1"/>
          </p:cNvSpPr>
          <p:nvPr>
            <p:ph/>
          </p:nvPr>
        </p:nvSpPr>
        <p:spPr>
          <a:xfrm>
            <a:off x="468360" y="1557000"/>
            <a:ext cx="8229600" cy="460836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Техникалық реттеу жөніндегі сарапшылық кеңес</a:t>
            </a:r>
            <a:r>
              <a:rPr b="1" lang="kk-KZ" sz="2800" spc="-1" strike="noStrike">
                <a:solidFill>
                  <a:srgbClr val="ffffff"/>
                </a:solidFill>
                <a:latin typeface="Tahoma"/>
              </a:rPr>
              <a:t> қ</a:t>
            </a:r>
            <a:r>
              <a:rPr b="1" lang="ru-RU" sz="2800" spc="-1" strike="noStrike">
                <a:solidFill>
                  <a:srgbClr val="ffffff"/>
                </a:solidFill>
                <a:latin typeface="Tahoma"/>
              </a:rPr>
              <a:t>оршаған ортаны қорғау саласындағы уәкілетті органның техникалық реттеу жөніндегі сарапшылық кеңес техникалық регламенттер жобаларын әзірлейді, сондай-ақ қоршаған ортаны қорғау саласындағы техникалық регламенттерді әзірлеу және қолдану жөніндегі ұсыныстарды қарайды.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Табиғат пайдаланушылардың қоршаған ортаны қорғауды басқару жүйесінің халықаралық стандарттарын енгізуі</a:t>
            </a:r>
            <a:endParaRPr b="0" lang="en-US" sz="2800" spc="-1" strike="noStrike">
              <a:solidFill>
                <a:srgbClr val="ffffff"/>
              </a:solidFill>
              <a:latin typeface="Tahoma"/>
            </a:endParaRPr>
          </a:p>
        </p:txBody>
      </p:sp>
      <p:sp>
        <p:nvSpPr>
          <p:cNvPr id="127" name="PlaceHolder 2"/>
          <p:cNvSpPr>
            <a:spLocks noGrp="1"/>
          </p:cNvSpPr>
          <p:nvPr>
            <p:ph/>
          </p:nvPr>
        </p:nvSpPr>
        <p:spPr>
          <a:xfrm>
            <a:off x="457200" y="1557000"/>
            <a:ext cx="8229600" cy="460836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халықаралық стандарттар туралы ақпарат тарату</a:t>
            </a:r>
            <a:r>
              <a:rPr b="1" lang="kk-KZ" sz="2400" spc="-1" strike="noStrike">
                <a:solidFill>
                  <a:srgbClr val="ffffff"/>
                </a:solidFill>
                <a:latin typeface="Tahoma"/>
              </a:rPr>
              <a:t>;</a:t>
            </a: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қорғау саласындағы уәкілетті органның қоршаған ортаны қорғауды басқару жүйесінің халықаралық стандарттарын енгізген және мұндай енгізуді растайтын құжаты бар табиғат пайдаланушыларға инспекторлық тексеру жүргізу жиілігін қысқартуы</a:t>
            </a:r>
            <a:r>
              <a:rPr b="1" lang="kk-KZ" sz="2400" spc="-1" strike="noStrike">
                <a:solidFill>
                  <a:srgbClr val="ffffff"/>
                </a:solidFill>
                <a:latin typeface="Tahoma"/>
              </a:rPr>
              <a:t>;</a:t>
            </a: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қорғауды экономикалық реттеу тетіктерін пайдалану арқылы ынталандырылады.</a:t>
            </a: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291960"/>
            <a:ext cx="87138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ҚР қоршаған ортаны қорғау саласындағы Заңдар және заңнамалық актілер</a:t>
            </a:r>
            <a:endParaRPr b="0" lang="en-US" sz="32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09.01.07 ж. №212-</a:t>
            </a:r>
            <a:r>
              <a:rPr b="0" lang="en-US" sz="2400" spc="-1" strike="noStrike">
                <a:solidFill>
                  <a:srgbClr val="ffffff"/>
                </a:solidFill>
                <a:latin typeface="Tahoma"/>
              </a:rPr>
              <a:t>III</a:t>
            </a:r>
            <a:r>
              <a:rPr b="0" lang="ru-RU" sz="2400" spc="-1" strike="noStrike">
                <a:solidFill>
                  <a:srgbClr val="ffffff"/>
                </a:solidFill>
                <a:latin typeface="Tahoma"/>
              </a:rPr>
              <a:t> ҚР Экологиялық кодексі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0.01.01 ж. № 155-</a:t>
            </a:r>
            <a:r>
              <a:rPr b="0" lang="en-US" sz="2400" spc="-1" strike="noStrike">
                <a:solidFill>
                  <a:srgbClr val="ffffff"/>
                </a:solidFill>
                <a:latin typeface="Tahoma"/>
              </a:rPr>
              <a:t>II</a:t>
            </a:r>
            <a:r>
              <a:rPr b="0" lang="ru-RU" sz="2400" spc="-1" strike="noStrike">
                <a:solidFill>
                  <a:srgbClr val="ffffff"/>
                </a:solidFill>
                <a:latin typeface="Tahoma"/>
              </a:rPr>
              <a:t> ҚР Әкімшілік құқық бұзу туралы кодексі</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6.07.97 ж. № 167-</a:t>
            </a:r>
            <a:r>
              <a:rPr b="0" lang="en-US" sz="2400" spc="-1" strike="noStrike">
                <a:solidFill>
                  <a:srgbClr val="ffffff"/>
                </a:solidFill>
                <a:latin typeface="Tahoma"/>
              </a:rPr>
              <a:t>I</a:t>
            </a:r>
            <a:r>
              <a:rPr b="0" lang="ru-RU" sz="2400" spc="-1" strike="noStrike">
                <a:solidFill>
                  <a:srgbClr val="ffffff"/>
                </a:solidFill>
                <a:latin typeface="Tahoma"/>
              </a:rPr>
              <a:t> ҚР Қылмыстық кодексі</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2.11.96 ж. №48 «Өрт қауіпсіздігі туралы» ҚР заңы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0.03.07ж. №94-п «Қоршаған ортаға эмииссияға рұқсат беру үшін құжаттар формаларның бекіту және оларды толтыру ережелері туралы» ҚР ҚОҚ министрілінің қаулысы</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4.04.07ж. №119-п ҚР ҚОҚ министрлігімен бекітілген Қоршаған ортаны қорғау бойынша шаралардың типтік тізімі.</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Tahoma"/>
              </a:rPr>
              <a:t>ЭКОЛОГИЯЛЫҚ ТАЛАПТАРДЫҢ РЕЕСТРІ</a:t>
            </a:r>
            <a:endParaRPr b="0" lang="en-US" sz="3500" spc="-1" strike="noStrike">
              <a:solidFill>
                <a:srgbClr val="ffffff"/>
              </a:solidFill>
              <a:latin typeface="Tahoma"/>
            </a:endParaRPr>
          </a:p>
        </p:txBody>
      </p:sp>
      <p:sp>
        <p:nvSpPr>
          <p:cNvPr id="129" name="Text Box 37"/>
          <p:cNvSpPr/>
          <p:nvPr/>
        </p:nvSpPr>
        <p:spPr>
          <a:xfrm>
            <a:off x="1671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Line 39"/>
          <p:cNvSpPr/>
          <p:nvPr/>
        </p:nvSpPr>
        <p:spPr>
          <a:xfrm>
            <a:off x="5435640" y="198900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aphicFrame>
        <p:nvGraphicFramePr>
          <p:cNvPr id="131" name=""/>
          <p:cNvGraphicFramePr/>
          <p:nvPr/>
        </p:nvGraphicFramePr>
        <p:xfrm>
          <a:off x="457200" y="1916280"/>
          <a:ext cx="8229600" cy="4333680"/>
        </p:xfrm>
        <a:graphic>
          <a:graphicData uri="http://schemas.openxmlformats.org/drawingml/2006/table">
            <a:tbl>
              <a:tblPr/>
              <a:tblGrid>
                <a:gridCol w="1371600"/>
                <a:gridCol w="1371600"/>
                <a:gridCol w="1371600"/>
                <a:gridCol w="1371600"/>
                <a:gridCol w="1371600"/>
                <a:gridCol w="137160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Құжат</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Құжат атауы</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Құжат талабы,</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бөлім №</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Бөлімше</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Әрекет ету мерзімі</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Сақтау орны</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905120"/>
            <a:ext cx="8229600" cy="4114800"/>
          </a:xfrm>
          <a:prstGeom prst="rect">
            <a:avLst/>
          </a:prstGeom>
          <a:noFill/>
          <a:ln w="0">
            <a:noFill/>
          </a:ln>
        </p:spPr>
        <p:txBody>
          <a:bodyPr anchor="t">
            <a:normAutofit fontScale="94000"/>
          </a:bodyPr>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marL="322200" indent="-32220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ҚР өрт қауіпсіздігінің ережелері. Негізгі талаптар. 08.02.06 №35 ҚР Төтенше жағдайлар бойынша министрінің бұйрығы.</a:t>
            </a:r>
            <a:endParaRPr b="0" lang="en-US" sz="2200" spc="-1" strike="noStrike">
              <a:solidFill>
                <a:srgbClr val="ffffff"/>
              </a:solidFill>
              <a:latin typeface="Tahoma"/>
            </a:endParaRPr>
          </a:p>
          <a:p>
            <a:pPr marL="322200" indent="-32220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ГН 2.1.6.696-98, ҚР 3.02.037.99 Елді мекендерде атмосфералық ауадағы ластаушы заттардың шамалы қауіпсіз деңгейлерінің әсері (ШҚДӘ)</a:t>
            </a:r>
            <a:endParaRPr b="0" lang="en-US" sz="2200" spc="-1" strike="noStrike">
              <a:solidFill>
                <a:srgbClr val="ffffff"/>
              </a:solidFill>
              <a:latin typeface="Tahoma"/>
            </a:endParaRPr>
          </a:p>
          <a:p>
            <a:pPr marL="322200" indent="-32220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Атмосфераға зиянды заттардың шығарылымын инвентаризациялау бойынша нұсқау. 21.12.00ж. №516-п  ҚР Қоршаған ортаны қорғау және табиғи ресурстар министрінің міндетін атқарушының бұйрығымен бекітілген.</a:t>
            </a:r>
            <a:endParaRPr b="0" lang="en-US" sz="2200" spc="-1" strike="noStrike">
              <a:solidFill>
                <a:srgbClr val="ffffff"/>
              </a:solidFill>
              <a:latin typeface="Tahoma"/>
            </a:endParaRPr>
          </a:p>
          <a:p>
            <a:pPr marL="322200" indent="-32220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ГН.2.1.6.695-98 ҚР 3.02.036.99 елді мекендерде атмосфералық ауаны ластайтын заттардың шектік рұқсат етілген концентрациялары</a:t>
            </a:r>
            <a:endParaRPr b="0" lang="en-US" sz="2200" spc="-1" strike="noStrike">
              <a:solidFill>
                <a:srgbClr val="ffffff"/>
              </a:solidFill>
              <a:latin typeface="Tahoma"/>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95" name="Rectangle 2"/>
          <p:cNvSpPr/>
          <p:nvPr/>
        </p:nvSpPr>
        <p:spPr>
          <a:xfrm>
            <a:off x="179280" y="291960"/>
            <a:ext cx="8713800" cy="138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ҚР қоршаған ортаны қорғау саласындағы Заңдар және заңнамалық актілер</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Қазақстан Республикасы орнықты дамуының экологиялық негіздері:</a:t>
            </a:r>
            <a:endParaRPr b="0" lang="en-US" sz="3200" spc="-1" strike="noStrike">
              <a:solidFill>
                <a:srgbClr val="ffffff"/>
              </a:solidFill>
              <a:latin typeface="Tahoma"/>
            </a:endParaRPr>
          </a:p>
        </p:txBody>
      </p:sp>
      <p:sp>
        <p:nvSpPr>
          <p:cNvPr id="97" name="PlaceHolder 2"/>
          <p:cNvSpPr>
            <a:spLocks noGrp="1"/>
          </p:cNvSpPr>
          <p:nvPr>
            <p:ph/>
          </p:nvPr>
        </p:nvSpPr>
        <p:spPr>
          <a:xfrm>
            <a:off x="457200" y="1557000"/>
            <a:ext cx="8229600" cy="4608360"/>
          </a:xfrm>
          <a:prstGeom prst="rect">
            <a:avLst/>
          </a:prstGeom>
          <a:noFill/>
          <a:ln w="0">
            <a:noFill/>
          </a:ln>
        </p:spPr>
        <p:txBody>
          <a:bodyPr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Адам өмірі мен денсаулығы үшін қолайлы қоршаған ортаны қамтамасыз ету жөніндегі мақсатқа мемлекеттің қол жеткізуі;</a:t>
            </a: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қорғау және биоәртүрлілікті сақтау;</a:t>
            </a: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Өз табиғи ресурстарын өндіруге құқықтарын қамтамасыз ету мен іске асыру және табиғи ресурстарды пайдалану мен қоршаған ортаға әсер ету мәселелерінде ұлттық мүдделерді қорғау;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азіргі және болашақ ұрпақтардың сұранысын әділ қанағаттандыру;</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Өндіріс пен тұтынудың орнықты үлгілерін дамыту;</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Қазақстан Республикасы орнықты дамуының экологиялық негіздері:</a:t>
            </a:r>
            <a:endParaRPr b="0" lang="en-US" sz="3200" spc="-1" strike="noStrike">
              <a:solidFill>
                <a:srgbClr val="ffffff"/>
              </a:solidFill>
              <a:latin typeface="Tahoma"/>
            </a:endParaRPr>
          </a:p>
        </p:txBody>
      </p:sp>
      <p:sp>
        <p:nvSpPr>
          <p:cNvPr id="99" name="PlaceHolder 2"/>
          <p:cNvSpPr>
            <a:spLocks noGrp="1"/>
          </p:cNvSpPr>
          <p:nvPr>
            <p:ph/>
          </p:nvPr>
        </p:nvSpPr>
        <p:spPr>
          <a:xfrm>
            <a:off x="457200" y="1557360"/>
            <a:ext cx="8229600" cy="446256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ң жай-күйін есепке ала отырып, экологиялық нормалаудың әлеуметтік және экономикалық даму талаптарына сай келуі;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Әрбір адамның экологиялық ақпаратқа қол жеткізу құқығын сақтау және жұртшылықтың қоршаған ортаны қорғау мен орнықты даму мәселелерін шешуге жан-жақты қатысуы;</a:t>
            </a: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қорғау саласында қабылданатын шаралардың жариялылығын қамтамасыз ету;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Қазақстан Республикасы орнықты дамуының экологиялық негіздері:</a:t>
            </a:r>
            <a:endParaRPr b="0" lang="en-US" sz="3200" spc="-1" strike="noStrike">
              <a:solidFill>
                <a:srgbClr val="ffffff"/>
              </a:solidFill>
              <a:latin typeface="Tahoma"/>
            </a:endParaRPr>
          </a:p>
        </p:txBody>
      </p:sp>
      <p:sp>
        <p:nvSpPr>
          <p:cNvPr id="101" name="PlaceHolder 2"/>
          <p:cNvSpPr>
            <a:spLocks noGrp="1"/>
          </p:cNvSpPr>
          <p:nvPr>
            <p:ph/>
          </p:nvPr>
        </p:nvSpPr>
        <p:spPr>
          <a:xfrm>
            <a:off x="457200" y="1557000"/>
            <a:ext cx="8229600" cy="4608360"/>
          </a:xfrm>
          <a:prstGeom prst="rect">
            <a:avLst/>
          </a:prstGeom>
          <a:noFill/>
          <a:ln w="0">
            <a:noFill/>
          </a:ln>
        </p:spPr>
        <p:txBody>
          <a:bodyPr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Жердің экожүйесінің салауатты жай-күйі мен тұтастығын сақтау, қорғау мен қалпына келтіру мақсатындағы жаhандық әріптестік; </a:t>
            </a:r>
            <a:endParaRPr b="0" lang="en-US" sz="24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ға залал келтіргені үшін жауаптылыққа қатысты халықаралық құқықтың дамуына жәрдемдесу;</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ға елеулі залал келтіретін немесе адам денсаулығы үшін зиянды деп есептелетін қызмет пен заттардың кез келген түрлерін басқа мемлекеттерге көшіру мен ауыстыруды тежеу, болдырмау, сондай-ақ қоршаған ортаға елеулі немесе орны толмайтын залал қатері төнген жағдайларда сақтандыру шараларын қолдану</a:t>
            </a:r>
            <a:r>
              <a:rPr b="0" lang="ru-RU" sz="2400" spc="-1" strike="noStrike">
                <a:solidFill>
                  <a:srgbClr val="ffffff"/>
                </a:solidFill>
                <a:latin typeface="Tahoma"/>
              </a:rPr>
              <a:t> </a:t>
            </a:r>
            <a:r>
              <a:rPr b="1" lang="ru-RU"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600"/>
            <a:ext cx="8229600" cy="13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Қазақстан Республикасы экологиялық заңнамасының негізгі принциптері</a:t>
            </a:r>
            <a:endParaRPr b="0" lang="en-US" sz="3200" spc="-1" strike="noStrike">
              <a:solidFill>
                <a:srgbClr val="ffffff"/>
              </a:solidFill>
              <a:latin typeface="Tahoma"/>
            </a:endParaRPr>
          </a:p>
        </p:txBody>
      </p:sp>
      <p:sp>
        <p:nvSpPr>
          <p:cNvPr id="103" name="PlaceHolder 2"/>
          <p:cNvSpPr>
            <a:spLocks noGrp="1"/>
          </p:cNvSpPr>
          <p:nvPr>
            <p:ph/>
          </p:nvPr>
        </p:nvSpPr>
        <p:spPr>
          <a:xfrm>
            <a:off x="457200" y="1557360"/>
            <a:ext cx="8229600" cy="4680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Қазақстан Республикасының орнықты дамуын қамтамасыз ету;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экологиялық қауіпсіздікті қамтамасыз ету;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экологиялық қатынастарды реттеу кезіндегі экожүйелі көзқарас;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қоршаған ортаны қорғау саласындағы мемлекеттік реттеу және табиғи ресурстарды пайдалану саласындағы мемлекеттік басқару;</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қоршаған ортаны ластаудың және оған кез келген басқа түрде залал келтіруді болдырмау жөнінде алдын алу шараларының міндеттілігі;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Қазақстан Республикасының экологиялық заңнамасын бұзғаны үшін жауаптылықтан бұлтартпау;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600"/>
            <a:ext cx="8229600" cy="13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Қазақстан Республикасы экологиялық заңнамасының негізгі принциптері</a:t>
            </a:r>
            <a:endParaRPr b="0" lang="en-US" sz="2800" spc="-1" strike="noStrike">
              <a:solidFill>
                <a:srgbClr val="ffffff"/>
              </a:solidFill>
              <a:latin typeface="Tahoma"/>
            </a:endParaRPr>
          </a:p>
        </p:txBody>
      </p:sp>
      <p:sp>
        <p:nvSpPr>
          <p:cNvPr id="105" name="PlaceHolder 2"/>
          <p:cNvSpPr>
            <a:spLocks noGrp="1"/>
          </p:cNvSpPr>
          <p:nvPr>
            <p:ph/>
          </p:nvPr>
        </p:nvSpPr>
        <p:spPr>
          <a:xfrm>
            <a:off x="457200" y="1483920"/>
            <a:ext cx="8229600" cy="4753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қоршаған ортаға келтірілген залалды өтеу міндеттілігі;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қоршаған ортаға әсер етудің ақылы болу және оған рұқсат алу тәртібі;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табиғи ресурстарды пайдалану мен қоршаған ортаға әсер ету кезінде неғұрлым экологиялық таза және ресурс үнемдеуші технологияларды қолдану;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қоршаған ортаны қорғау жөніндегі мемлекеттік органдар қызметінің өзара әрекеттестігі, үйлесімділігі мен жариялылығы;</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ahoma"/>
              </a:rPr>
              <a:t>табиғат пайдаланушыларды қоршаған ортаны ластауды болдырмауға, азайтуға және оны жоюға, қалдықтарды кемітуге ынталандыру;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600"/>
            <a:ext cx="8229600" cy="13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Қазақстан Республикасы экологиялық заңнамасының негізгі принциптері</a:t>
            </a:r>
            <a:endParaRPr b="0" lang="en-US" sz="2800" spc="-1" strike="noStrike">
              <a:solidFill>
                <a:srgbClr val="ffffff"/>
              </a:solidFill>
              <a:latin typeface="Tahoma"/>
            </a:endParaRPr>
          </a:p>
        </p:txBody>
      </p:sp>
      <p:sp>
        <p:nvSpPr>
          <p:cNvPr id="107" name="PlaceHolder 2"/>
          <p:cNvSpPr>
            <a:spLocks noGrp="1"/>
          </p:cNvSpPr>
          <p:nvPr>
            <p:ph/>
          </p:nvPr>
        </p:nvSpPr>
        <p:spPr>
          <a:xfrm>
            <a:off x="457200" y="1341360"/>
            <a:ext cx="8229600" cy="489600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экологиялық ақпараттың қолжетімділігі</a:t>
            </a:r>
            <a:r>
              <a:rPr b="1" lang="ru-RU"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табиғи ресурстарды пайдалану мен қоршаған ортаға әсер ету кезінде ұлттық мүдделерді қамтамасыз ету</a:t>
            </a:r>
            <a:r>
              <a:rPr b="1" lang="ru-RU"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азақстан Республикасы экологиялық заңнамасының халықаралық құқық принциптерімен және нормаларымен үйлесуі</a:t>
            </a:r>
            <a:r>
              <a:rPr b="1" lang="ru-RU"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жоспарланып отырған шаруашылық және өзге де қызметтің экологиялық қауіптілігі презумпциясы және оны жүзеге асыру туралы шешімдер қабылдаған кезде қоршаған ортаға және халықтың денсаулығына әсерін бағалау міндеттілігі</a:t>
            </a:r>
            <a:r>
              <a:rPr b="1"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5T11:28:10Z</dcterms:created>
  <dc:creator>EPetrosyan</dc:creator>
  <dc:description/>
  <dc:language>en-US</dc:language>
  <cp:lastModifiedBy>User</cp:lastModifiedBy>
  <cp:lastPrinted>2003-02-05T14:15:09Z</cp:lastPrinted>
  <dcterms:modified xsi:type="dcterms:W3CDTF">2012-05-28T05:29:11Z</dcterms:modified>
  <cp:revision>204</cp:revision>
  <dc:subject/>
  <dc:title>Заголовок слайда отсутствует</dc:title>
</cp:coreProperties>
</file>